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DD35-1758-4250-AE1F-7979EA4FB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1BFA-7EC1-401F-AD39-4442A216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AFAE-48E4-4CA8-8D41-21743AB87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4F68-292E-4B55-921A-DC7FBEDD2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1DD8CE-6F51-4AA3-AEBF-418989614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4DAFA-9302-4439-823A-A2FA6931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ABC1FB-9B09-41FD-8FCA-39833AE0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4D3BD0-868B-45E2-9F48-24B3DF27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35A08-4FB8-4CA8-91D3-1EF125B3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8BA7E-8644-4941-A162-6901B14A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721BC-5B9C-469D-A839-6FE09338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52A3-DB98-48AF-8257-9EE74335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CCBA5-3A51-4C8E-890D-0B638281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39986-D5A3-4327-8793-E756A7E5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3C2421-BD1B-49CD-9FC4-38ECD6D9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D8FF3-BC79-49B6-8515-56ACB8657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6E7DC3-6CC1-4024-8C2E-F54364EEE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FC40-6289-4C4B-BB81-DF3C2DF4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0977-7531-423D-B993-450982F6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2E1E-6F0D-42DF-A462-6F338473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6216-EB9C-4485-87DF-6F44534D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900D-51FC-4990-8A34-3EF2C60A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36B0-0B13-44ED-9100-C71047C0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227B-E681-49AB-8E7B-8E06B8E2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4574-DA1D-451E-BB1F-A25B0F89DE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1F5C-F501-45F6-A3B8-DFF7D0732CD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lib.exdat.com/tw_files2/urls_13/5/d-4391/4391_html_55c9dbfd.pn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122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тская агрессия. Причины и последствия детской агресс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137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едагог-психолог Цыганкова Д.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едагог-психолог Лазеева А.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Рисунок 3" descr="http://lib.exdat.com/tw_files2/urls_13/5/d-4391/4391_html_55c9dbfd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2205000"/>
            <a:ext cx="2601720" cy="30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пределение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у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овня агрессивности у ребен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ложительный ответ на каждое предложенное утверждение оценивается в 1 бал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ысокая агрессивность – 15-20 балл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редняя агрессивность – 7-14 балл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изкая агрессивность – 1-6 балл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емы эффективного взаимодействия с агрессивными деть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Я-высказывание»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это прием и способ, с помощью которого взрослый сообщает ребенку о своих чувствах и отрицательных переживаниях, а не о ребёнке и его поведении, которое это переживание вызвало (в отличие от «Ты-высказываний). «Я-высказывание» всегда начинается с личных местоимений: я, мне, мен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емы эффективного взаимодействия с агрессивными деть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2f2f2"/>
                </a:solidFill>
                <a:latin typeface="Times New Roman"/>
                <a:ea typeface="Calibri"/>
              </a:rPr>
              <a:t>В </a:t>
            </a:r>
            <a:r>
              <a:rPr b="1" lang="ru-RU" sz="2600" spc="-1" strike="noStrike">
                <a:solidFill>
                  <a:srgbClr val="38ff38"/>
                </a:solidFill>
                <a:latin typeface="Times New Roman"/>
                <a:ea typeface="Calibri"/>
              </a:rPr>
              <a:t>зеленую зону</a:t>
            </a:r>
            <a:r>
              <a:rPr b="0" lang="ru-RU" sz="2600" spc="-1" strike="noStrike">
                <a:solidFill>
                  <a:srgbClr val="38ff38"/>
                </a:solidFill>
                <a:latin typeface="Times New Roman"/>
                <a:ea typeface="Calibri"/>
              </a:rPr>
              <a:t> </a:t>
            </a:r>
            <a:r>
              <a:rPr b="0" lang="ru-RU" sz="2600" spc="-1" strike="noStrike">
                <a:solidFill>
                  <a:srgbClr val="f2f2f2"/>
                </a:solidFill>
                <a:latin typeface="Times New Roman"/>
                <a:ea typeface="Calibri"/>
              </a:rPr>
              <a:t>помещается то, что разрешается делать ребенку по его собственному усмотрению и желанию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2f2f2"/>
                </a:solidFill>
                <a:latin typeface="Times New Roman"/>
                <a:ea typeface="Calibri"/>
              </a:rPr>
              <a:t>В </a:t>
            </a:r>
            <a:r>
              <a:rPr b="1" lang="ru-RU" sz="2600" spc="-1" strike="noStrike">
                <a:solidFill>
                  <a:srgbClr val="ffff00"/>
                </a:solidFill>
                <a:latin typeface="Times New Roman"/>
                <a:ea typeface="Calibri"/>
              </a:rPr>
              <a:t>желтой зоне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Calibri"/>
              </a:rPr>
              <a:t> </a:t>
            </a:r>
            <a:r>
              <a:rPr b="0" lang="ru-RU" sz="2600" spc="-1" strike="noStrike">
                <a:solidFill>
                  <a:srgbClr val="f2f2f2"/>
                </a:solidFill>
                <a:latin typeface="Times New Roman"/>
                <a:ea typeface="Calibri"/>
              </a:rPr>
              <a:t>ребенку предоставляется право действовать по собственному выбору, но в пределах определенных границ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2f2f2"/>
                </a:solidFill>
                <a:latin typeface="Times New Roman"/>
                <a:ea typeface="Calibri"/>
              </a:rPr>
              <a:t>В </a:t>
            </a:r>
            <a:r>
              <a:rPr b="1" lang="ru-RU" sz="2600" spc="-1" strike="noStrike">
                <a:solidFill>
                  <a:srgbClr val="e2702a"/>
                </a:solidFill>
                <a:latin typeface="Times New Roman"/>
                <a:ea typeface="Calibri"/>
              </a:rPr>
              <a:t>оранжевой зоне</a:t>
            </a:r>
            <a:r>
              <a:rPr b="0" lang="ru-RU" sz="2600" spc="-1" strike="noStrike">
                <a:solidFill>
                  <a:srgbClr val="f2f2f2"/>
                </a:solidFill>
                <a:latin typeface="Times New Roman"/>
                <a:ea typeface="Calibri"/>
              </a:rPr>
              <a:t> находятся такие действия ребенка, которые родителем уже не приветствуются, но ввиду особых обстоятельств допускаются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2f2f2"/>
                </a:solidFill>
                <a:latin typeface="Times New Roman"/>
                <a:ea typeface="Calibri"/>
              </a:rPr>
              <a:t>К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Calibri"/>
              </a:rPr>
              <a:t>красной зоне </a:t>
            </a:r>
            <a:r>
              <a:rPr b="0" lang="ru-RU" sz="2600" spc="-1" strike="noStrike">
                <a:solidFill>
                  <a:srgbClr val="f2f2f2"/>
                </a:solidFill>
                <a:latin typeface="Times New Roman"/>
                <a:ea typeface="Calibri"/>
              </a:rPr>
              <a:t>относятся те действия ребенка, которые «не приемлемы ни при каких обстоятельствах»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Calibri"/>
              </a:rPr>
              <a:t>Договорное соглашение с ребенко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052640"/>
          <a:ext cx="8229600" cy="5468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Calibri"/>
                        </a:rPr>
                        <a:t>Пожелания родителей (правила, требования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Calibri"/>
                        </a:rPr>
                        <a:t>Пожелания ребенка (правила и требования для родителей) (мальчик 11 лет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4164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Calibri"/>
                        </a:rPr>
                        <a:t>Делать уроки до 8 часов вечер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Calibri"/>
                        </a:rPr>
                        <a:t>Мыть за собой посуду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Calibri"/>
                        </a:rPr>
                        <a:t>Убирать за собой постель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Calibri"/>
                        </a:rPr>
                        <a:t>Перестать употреблять ругательные выражения по отношению к младшей сестр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Calibri"/>
                        </a:rPr>
                        <a:t>Говорить уважительно с родителям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Calibri"/>
                        </a:rPr>
                        <a:t>Перестать бить меня ремнем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Calibri"/>
                        </a:rPr>
                        <a:t>Не давать мне подзатыльник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Calibri"/>
                        </a:rPr>
                        <a:t>Перестать меня обзывать (причем выражения со стороны родителей те же, что и ребенка по отношению к младшей сестре)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Calibri"/>
                        </a:rPr>
                        <a:t>Не кричать, а просто сказать, что от меня нужно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Calibri"/>
                        </a:rPr>
                        <a:t>Говорить мне «спасибо», когда что-то делаю по просьбе родителе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Calibri"/>
                        </a:rPr>
                        <a:t>Замечать и хвалить, когда сам что-то сделал без просьбы родителей (купил хлеб, помыл за всеми посуду и т.п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филактика агрессивного поведения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обходимо быть последовательными в своих действиях по отношению к детя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ребования, предъявляемые детям, должны быть разумны, а на их выполнении надо настаивать, ясно давая детям понять, чего от них жду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ледует избегать неоправданного применения силы и угроз для контроля поведения дет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мочь ребенку научиться владеть собой, развивать у него чувство контрол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ать понять ребенку, что агрессивное поведение никогда не принесет выго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филактика агрессивного поведения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учите ребенка говорить о своих переживаниях, называть вещи своими именами: «я разозлился», «я обиделся», «я расстроился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 обзывайте ребенка глупым, тупым и т.д. – он будет так же вести себя с другими деть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ем больше будет агрессии с вашей стороны, тем больше враждебности зародится в душе ребен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огда ребенку нужно просто понимание, и одно лишь ласковое слово способно снять его озлобл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134136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грессивное поведение у детей - это своеобразный сигнал SOS, крик о помощи, о внимании к своему внутреннему миру, в котором накопилось слишком много разрушительных эмоций, с которыми ребёнок справиться не в силах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95280" y="475920"/>
            <a:ext cx="8137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еловек обладает способностью люби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если он не может найти применения свое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особности любить, он способен ненавиде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являя агрессию и жестокость. Этим средств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н руководствуется как бегством от собственно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ушевной бо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Эрих Фром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ffff00"/>
                </a:solidFill>
                <a:latin typeface="Times New Roman"/>
              </a:rPr>
              <a:t>Агрессия – это поведение, которое причиняет вред предметам, человеку или группе людей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4" descr="BABY8"/>
          <p:cNvPicPr/>
          <p:nvPr/>
        </p:nvPicPr>
        <p:blipFill>
          <a:blip r:embed="rId1"/>
          <a:stretch/>
        </p:blipFill>
        <p:spPr>
          <a:xfrm>
            <a:off x="5292720" y="3213000"/>
            <a:ext cx="2882880" cy="309564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549360"/>
            <a:ext cx="82296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роявления агресс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физическая             вербаль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аутоагресс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иды агресс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инструментальная   враждеб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90" name="Прямая со стрелкой 4"/>
          <p:cNvCxnSpPr/>
          <p:nvPr/>
        </p:nvCxnSpPr>
        <p:spPr>
          <a:xfrm flipH="1">
            <a:off x="3058560" y="1052640"/>
            <a:ext cx="649800" cy="792720"/>
          </a:xfrm>
          <a:prstGeom prst="straightConnector1">
            <a:avLst/>
          </a:prstGeom>
          <a:ln w="9360">
            <a:solidFill>
              <a:srgbClr val="2ecbcb"/>
            </a:solidFill>
            <a:miter/>
            <a:tailEnd len="med" type="arrow" w="med"/>
          </a:ln>
        </p:spPr>
      </p:cxnSp>
      <p:cxnSp>
        <p:nvCxnSpPr>
          <p:cNvPr id="91" name="Прямая со стрелкой 6"/>
          <p:cNvCxnSpPr/>
          <p:nvPr/>
        </p:nvCxnSpPr>
        <p:spPr>
          <a:xfrm>
            <a:off x="5651640" y="1052640"/>
            <a:ext cx="505440" cy="792720"/>
          </a:xfrm>
          <a:prstGeom prst="straightConnector1">
            <a:avLst/>
          </a:prstGeom>
          <a:ln w="9360">
            <a:solidFill>
              <a:srgbClr val="2ecbcb"/>
            </a:solidFill>
            <a:miter/>
            <a:tailEnd len="med" type="arrow" w="med"/>
          </a:ln>
        </p:spPr>
      </p:cxnSp>
      <p:cxnSp>
        <p:nvCxnSpPr>
          <p:cNvPr id="92" name="Прямая со стрелкой 8"/>
          <p:cNvCxnSpPr/>
          <p:nvPr/>
        </p:nvCxnSpPr>
        <p:spPr>
          <a:xfrm flipH="1">
            <a:off x="4500360" y="1052280"/>
            <a:ext cx="72000" cy="1369080"/>
          </a:xfrm>
          <a:prstGeom prst="straightConnector1">
            <a:avLst/>
          </a:prstGeom>
          <a:ln w="9360">
            <a:solidFill>
              <a:srgbClr val="2ecbcb"/>
            </a:solidFill>
            <a:miter/>
            <a:tailEnd len="med" type="arrow" w="med"/>
          </a:ln>
        </p:spPr>
      </p:cxnSp>
      <p:cxnSp>
        <p:nvCxnSpPr>
          <p:cNvPr id="93" name="Прямая со стрелкой 10"/>
          <p:cNvCxnSpPr/>
          <p:nvPr/>
        </p:nvCxnSpPr>
        <p:spPr>
          <a:xfrm flipH="1">
            <a:off x="3419280" y="4508280"/>
            <a:ext cx="792720" cy="865800"/>
          </a:xfrm>
          <a:prstGeom prst="straightConnector1">
            <a:avLst/>
          </a:prstGeom>
          <a:ln w="9360">
            <a:solidFill>
              <a:srgbClr val="2ecbcb"/>
            </a:solidFill>
            <a:miter/>
            <a:tailEnd len="med" type="arrow" w="med"/>
          </a:ln>
        </p:spPr>
      </p:cxnSp>
      <p:cxnSp>
        <p:nvCxnSpPr>
          <p:cNvPr id="94" name="Прямая со стрелкой 12"/>
          <p:cNvCxnSpPr/>
          <p:nvPr/>
        </p:nvCxnSpPr>
        <p:spPr>
          <a:xfrm>
            <a:off x="5076720" y="4508280"/>
            <a:ext cx="791280" cy="937080"/>
          </a:xfrm>
          <a:prstGeom prst="straightConnector1">
            <a:avLst/>
          </a:prstGeom>
          <a:ln w="9360">
            <a:solidFill>
              <a:srgbClr val="2ecbcb"/>
            </a:solidFill>
            <a:miter/>
            <a:tailEnd len="med" type="arrow" w="med"/>
          </a:ln>
        </p:spPr>
      </p:cxn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Виды агресс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136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нструментальная (проявляется человеком для достижения определенной цел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Враждебная (направлена на то, чтобы причинить боль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15" descr="agr_03"/>
          <p:cNvPicPr/>
          <p:nvPr/>
        </p:nvPicPr>
        <p:blipFill>
          <a:blip r:embed="rId1"/>
          <a:stretch/>
        </p:blipFill>
        <p:spPr>
          <a:xfrm>
            <a:off x="6372360" y="4005360"/>
            <a:ext cx="2232000" cy="256680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пражнение «Диктат»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905040" y="1700280"/>
            <a:ext cx="7333920" cy="381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чины детской агрессивност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болевание центральной нервной системы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грессивность как средство психологической защиты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личные нарушения семейного воспитания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рушение эмоциональных связей в семье как между родителями и ребенком, так и между самими родителями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уважение к личности ребенк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орректная и нетактичная критика ребенк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резмерный контроль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ное отсутствие контроля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быток или недостаток внимания со стороны родителей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рушенная исследовательская активность ребенк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чаи, когда за агрессивность принимают что - то другое. Например, детское упрямство (в возрасте 2-4 лет) - «не хочу», «не буду», «я сам» и др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чины детской агрессивност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05264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рет на физическую активность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каз в праве на личную свободу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сознательное ожидание страха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моциональная нестабильность, колебания эмоций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уверенность в собственной безопасности в семье, где частые ссоры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овольство собой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ышенная раздражительность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увство вины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ритерии агрессивност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764640"/>
            <a:ext cx="8229600" cy="525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бенок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сто теряет контроль над соб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сто спорит, ругается с взрослы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сто отказывается выполнять прави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сто специально раздражает люд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сто винит других в своих ошибк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сто сердится и отказывается сделать что-либ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сто завистлив, мстителе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увствителен, очень быстро реагирует на различные действия окружающих (детей и взрослых), которые нередко раздражают ег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20:42:40Z</dcterms:created>
  <dc:creator> uzer</dc:creator>
  <dc:description/>
  <dc:language>en-US</dc:language>
  <cp:lastModifiedBy>User</cp:lastModifiedBy>
  <dcterms:modified xsi:type="dcterms:W3CDTF">2018-11-23T12:26:48Z</dcterms:modified>
  <cp:revision>30</cp:revision>
  <dc:subject/>
  <dc:title>Агрессивность детей </dc:title>
</cp:coreProperties>
</file>